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C71-E138-4B54-84A7-F1A299A9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78E-9AA8-492F-891D-40329EC1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327-ED2C-43CB-A46E-99ADC560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9D5-AB3F-4CAF-8868-7AE2E109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C743-BFD4-4177-A1F5-735A60DF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7791-042E-40EB-B570-D2A5DE1C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A4AF-350D-4628-B872-0E7AE46B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7F83-F91B-4941-8AA6-C7811307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AC86-7967-4CDB-9A93-5D9452AF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4CDB-7DC0-43A8-A3D2-9A31EF02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C96B-F91D-4470-8D68-E82657AF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D1B-4845-4300-B915-F86EEDFA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292A-E08A-49AB-A78C-FDD7588F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F0DF-5884-49F3-BCAE-D6816F2E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1F2D-5959-49AA-B881-45CE11D9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15F8-C58F-4EF1-B531-5828A346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CF25-CB19-4EE5-A7D2-E687DF06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B275D-5DED-4B4C-A57C-A6EBD113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A9C21-8D68-4D61-8679-389BCC2F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FB241-7CC9-455E-B3AE-C55D3C9D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47565-11BA-466E-8517-A4FE8971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FE4BA-8AFA-4DBF-81DE-5301B72D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2C8A-6706-4AE2-B68C-71BA0EBA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2FA8-E7F7-4B9C-8DF1-033794D8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A842B-251E-445D-8726-0CB13F30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B8A0B-584A-40D9-B7A3-8E464E4E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73E56-C4B4-4CCF-97A8-D2449E9B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5C519-E912-4CF3-B050-B38D683D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68385-DF1C-4999-98DA-B90BE761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48B41-B127-44EC-BD75-DAE448A7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D61EC-6226-47A1-971D-2CA3FEBD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B0D4A-D715-4FD5-A223-CD6179C3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3672D-D368-4104-A5D5-0F8F1CDD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035-DB9A-47D2-A8E0-858AC514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53EAF-63BF-4DD4-A2A1-14F92CE5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69B3A-BF03-4F23-83B5-0AE4BA77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87C45-AC73-4EB9-B64D-2FC0A018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EFD41-0CEA-46BC-A3B8-4101249A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688A4-A4F5-4B38-8F82-6E2E040C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712EB-BD14-4331-A3FA-8CA39D83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C212F-41AB-47E7-8D0D-38AB0D55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517D3-5BF5-4FBE-950F-717FD2BD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79DEE-86EC-4C75-BCC4-C30002C6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4BA7C-F515-4DEA-A5BE-034E4DAC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823-5ABB-47F4-B76E-C8186B29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BBC9A-09C2-4C47-8D95-7BBCCF8A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D4460-0EFB-4858-AA33-3D48A937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B9773-6D5D-42D1-81F2-3A08CA15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58BC0-3034-4CEB-A16B-741F731C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48F45-E61B-4582-A9E6-AB4943D1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F7EDB-C2BF-4706-9ED5-BB543D26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C3E23-CA74-43B4-B675-9651962C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69066-AD15-47B9-9BDC-EF93C277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EDDC8-1D65-430A-8D91-47815465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204E7-1795-4E23-B516-352127D0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EC00-9E34-4F08-B56C-E35909C1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A80FF-C637-4C7F-A19F-82994C13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66DA4-52F1-4705-AB51-ED657400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4D5DA-579E-42D3-9530-3736046C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70AB8-79A3-4158-A46D-6EA1031C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BE176-AC4E-4EC9-9EBF-9AF42E73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60259-0521-410C-AC0D-66CD74C6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CC13F-635B-4513-9463-27EFDC14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3F3BE-985C-491D-9026-6E7D6B34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92177-B251-476B-9B16-A570B437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5632B-307D-4957-8535-F035B2EA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007-4E2C-4985-BAEF-69E488DB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20A8F-8611-44FC-8A38-671F364D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182FC-9E35-443A-9EEA-30A21094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770C5-D0FB-4D3B-8CE2-83C5CCD4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43DCF-75C8-44E4-AB3F-11D2A605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0C669-F61F-4F1E-8961-2972E639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50273-6422-45E3-93AB-00DE1A26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872A7-4F5F-4606-B137-9BA753D4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2C041-3057-48B7-AD7E-909150D4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4DE75-C473-406A-A611-4380BCD2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481B2-72A0-4EC0-956B-70E6326B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F74-BC6D-4CB1-B8C0-E9C9B47A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AE162-A66D-4AFB-9E48-DAA9A8A2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69F58-5966-451D-AF87-EF282B94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363C7-5634-4DCD-9992-AE85A227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D6D23-E57E-42FB-A2DC-3AE9ACFB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97B5E-2373-460B-AAF9-D80BF822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3FD4-A1B7-4F81-A0D6-9DC0372C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42E5-E267-46C8-9EC7-C0FE8F17B47E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>
              <a:gd name="textAreaLeft" fmla="*/ 57600 w 8686800"/>
              <a:gd name="textAreaRight" fmla="*/ 8629200 w 8686800"/>
              <a:gd name="textAreaTop" fmla="*/ 57960 h 1828800"/>
              <a:gd name="textAreaBottom" fmla="*/ 1829520 h 1828800"/>
            </a:gdLst>
            <a:ahLst/>
            <a:rect l="textAreaLeft" t="textAreaTop" r="textAreaRight" b="textAreaBottom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lnTo>
                  <a:pt x="8489582" y="0"/>
                </a:lnTo>
                <a:arcTo wR="197218" hR="197218" stAng="-5400000" swAng="5400000"/>
                <a:lnTo>
                  <a:pt x="8686800" y="1828800"/>
                </a:lnTo>
                <a:lnTo>
                  <a:pt x="0" y="1828800"/>
                </a:lnTo>
                <a:lnTo>
                  <a:pt x="0" y="197218"/>
                </a:lnTo>
                <a:lnTo>
                  <a:pt x="0" y="197218"/>
                </a:lnTo>
                <a:arcTo wR="197218" hR="197218" stAng="10800000" swAng="5400000"/>
                <a:close/>
              </a:path>
            </a:pathLst>
          </a:cu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>
              <a:gd name="textAreaLeft" fmla="*/ 36360 w 8686800"/>
              <a:gd name="textAreaRight" fmla="*/ 8650440 w 8686800"/>
              <a:gd name="textAreaTop" fmla="*/ 36360 h 4419720"/>
              <a:gd name="textAreaBottom" fmla="*/ 4420080 h 4419720"/>
            </a:gdLst>
            <a:ahLst/>
            <a:rect l="textAreaLeft" t="textAreaTop" r="textAreaRight" b="textAreaBottom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lnTo>
                  <a:pt x="8562123" y="0"/>
                </a:lnTo>
                <a:arcTo wR="124677" hR="124677" stAng="-5400000" swAng="5400000"/>
                <a:lnTo>
                  <a:pt x="8686800" y="4419600"/>
                </a:lnTo>
                <a:lnTo>
                  <a:pt x="0" y="4419600"/>
                </a:lnTo>
                <a:lnTo>
                  <a:pt x="0" y="124677"/>
                </a:lnTo>
                <a:lnTo>
                  <a:pt x="0" y="124677"/>
                </a:lnTo>
                <a:arcTo wR="124677" hR="124677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A5CA-AF38-4408-AD77-84C5C2F4976C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4952880"/>
              <a:gd name="textAreaBottom" fmla="*/ 4953240 h 4952880"/>
            </a:gdLst>
            <a:ahLst/>
            <a:rect l="textAreaLeft" t="textAreaTop" r="textAreaRight" b="textAreaBottom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lnTo>
                  <a:pt x="8547076" y="0"/>
                </a:lnTo>
                <a:arcTo wR="139724" hR="139724" stAng="-5400000" swAng="5400000"/>
                <a:lnTo>
                  <a:pt x="8686800" y="4953000"/>
                </a:lnTo>
                <a:lnTo>
                  <a:pt x="0" y="4953000"/>
                </a:lnTo>
                <a:lnTo>
                  <a:pt x="0" y="139724"/>
                </a:lnTo>
                <a:lnTo>
                  <a:pt x="0" y="139724"/>
                </a:lnTo>
                <a:arcTo wR="139724" hR="139724" stAng="10800000" swAng="5400000"/>
                <a:close/>
              </a:path>
            </a:pathLst>
          </a:cu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1295280"/>
              <a:gd name="textAreaBottom" fmla="*/ 1295640 h 1295280"/>
            </a:gdLst>
            <a:ahLst/>
            <a:rect l="textAreaLeft" t="textAreaTop" r="textAreaRight" b="textAreaBottom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lnTo>
                  <a:pt x="8547104" y="0"/>
                </a:lnTo>
                <a:arcTo wR="139696" hR="139696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139696"/>
                </a:lnTo>
                <a:lnTo>
                  <a:pt x="0" y="139696"/>
                </a:lnTo>
                <a:arcTo wR="139696" hR="139696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34BD-4E6C-4BCA-B7E9-332F248698A4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4EFF-A5EB-4762-BB56-B7EEDC7F5079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61D0-6EBE-480A-BA47-141C524BDB0D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2D25-3320-4D7A-9C7A-3B632A01A9FB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>
              <a:gd name="textAreaLeft" fmla="*/ 27720 w 6095880"/>
              <a:gd name="textAreaRight" fmla="*/ 6068160 w 6095880"/>
              <a:gd name="textAreaTop" fmla="*/ 27720 h 1952640"/>
              <a:gd name="textAreaBottom" fmla="*/ 1953000 h 1952640"/>
            </a:gdLst>
            <a:ahLst/>
            <a:rect l="textAreaLeft" t="textAreaTop" r="textAreaRight" b="textAreaBottom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lnTo>
                  <a:pt x="6000282" y="0"/>
                </a:lnTo>
                <a:arcTo wR="95718" hR="95718" stAng="-5400000" swAng="5400000"/>
                <a:lnTo>
                  <a:pt x="6096000" y="1952625"/>
                </a:lnTo>
                <a:lnTo>
                  <a:pt x="0" y="1952625"/>
                </a:lnTo>
                <a:lnTo>
                  <a:pt x="0" y="95718"/>
                </a:lnTo>
                <a:lnTo>
                  <a:pt x="0" y="95718"/>
                </a:lnTo>
                <a:arcTo wR="95718" hR="95718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9AF6-41B9-456A-8B24-9A24A0D77286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k-12.pisd.edu/guide/elemen/index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cceptable Use for Studen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computer makes school work f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as there are rules in your classroom, in the Science lab, at home, and for crossing the street safely, there are rules for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3a52"/>
                </a:solidFill>
                <a:latin typeface="Arial"/>
              </a:rPr>
              <a:t>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3a52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3a52"/>
                </a:solidFill>
                <a:latin typeface="Arial"/>
              </a:rPr>
              <a:t>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C:\Documents and Settings\121hintza.RRISD\Local Settings\Temporary Internet Files\Content.IE5\ONW2JTGI\MPj04393590000[1].jpg"/>
          <p:cNvPicPr/>
          <p:nvPr/>
        </p:nvPicPr>
        <p:blipFill>
          <a:blip r:embed="rId1"/>
          <a:stretch/>
        </p:blipFill>
        <p:spPr>
          <a:xfrm>
            <a:off x="6095880" y="3809880"/>
            <a:ext cx="2793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solidFill>
            <a:srgbClr val="4b7937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Internet pages contain commercials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lick on commercial li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7676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990720" y="304920"/>
            <a:ext cx="7086600" cy="1068840"/>
          </a:xfrm>
          <a:prstGeom prst="rect">
            <a:avLst/>
          </a:prstGeom>
          <a:solidFill>
            <a:srgbClr val="4b7937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ver sign-up for special offer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send electronic gr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1219320" y="15429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37" name="Oval 4"/>
          <p:cNvSpPr/>
          <p:nvPr/>
        </p:nvSpPr>
        <p:spPr>
          <a:xfrm>
            <a:off x="4114800" y="4038480"/>
            <a:ext cx="182880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838080" y="457200"/>
            <a:ext cx="7696440" cy="204372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found on the Internet, such as pictures, text, and documents should only 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v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nt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en a teacher has given per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inter2aa"/>
          <p:cNvPicPr/>
          <p:nvPr/>
        </p:nvPicPr>
        <p:blipFill>
          <a:blip r:embed="rId1"/>
          <a:stretch/>
        </p:blipFill>
        <p:spPr>
          <a:xfrm>
            <a:off x="990720" y="2743200"/>
            <a:ext cx="3429000" cy="2592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2"/>
          <a:srcRect l="0" t="-885" r="46009" b="0"/>
          <a:stretch/>
        </p:blipFill>
        <p:spPr>
          <a:xfrm>
            <a:off x="4952880" y="2743200"/>
            <a:ext cx="309096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etting Starte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380880" y="15238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Press Ctrl-Alt-Delete, then logon, each time you use a school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1"/>
          <a:srcRect l="0" t="4218" r="0" b="0"/>
          <a:stretch/>
        </p:blipFill>
        <p:spPr>
          <a:xfrm>
            <a:off x="2895480" y="2362320"/>
            <a:ext cx="3429000" cy="17334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2"/>
          <p:cNvSpPr/>
          <p:nvPr/>
        </p:nvSpPr>
        <p:spPr>
          <a:xfrm>
            <a:off x="380880" y="4115880"/>
            <a:ext cx="8458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hruti"/>
              </a:rPr>
              <a:t>Enter your username and password.    Do not change the bottom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2"/>
          <p:cNvGrpSpPr/>
          <p:nvPr/>
        </p:nvGrpSpPr>
        <p:grpSpPr>
          <a:xfrm>
            <a:off x="2666880" y="4724280"/>
            <a:ext cx="4038840" cy="1981440"/>
            <a:chOff x="2666880" y="4724280"/>
            <a:chExt cx="4038840" cy="1981440"/>
          </a:xfrm>
        </p:grpSpPr>
        <p:grpSp>
          <p:nvGrpSpPr>
            <p:cNvPr id="346" name="Group 3"/>
            <p:cNvGrpSpPr/>
            <p:nvPr/>
          </p:nvGrpSpPr>
          <p:grpSpPr>
            <a:xfrm>
              <a:off x="2666880" y="4724280"/>
              <a:ext cx="4038840" cy="1981440"/>
              <a:chOff x="2666880" y="4724280"/>
              <a:chExt cx="4038840" cy="1981440"/>
            </a:xfrm>
          </p:grpSpPr>
          <p:pic>
            <p:nvPicPr>
              <p:cNvPr id="347" name="Picture 4" descr="b "/>
              <p:cNvPicPr/>
              <p:nvPr/>
            </p:nvPicPr>
            <p:blipFill>
              <a:blip r:embed="rId2"/>
              <a:stretch/>
            </p:blipFill>
            <p:spPr>
              <a:xfrm>
                <a:off x="2666880" y="4724280"/>
                <a:ext cx="403884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Rectangle 5"/>
              <p:cNvSpPr/>
              <p:nvPr/>
            </p:nvSpPr>
            <p:spPr>
              <a:xfrm>
                <a:off x="3414600" y="6000480"/>
                <a:ext cx="2543040" cy="24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6"/>
              <p:cNvSpPr/>
              <p:nvPr/>
            </p:nvSpPr>
            <p:spPr>
              <a:xfrm>
                <a:off x="3414600" y="5793480"/>
                <a:ext cx="2543040" cy="24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7"/>
              <p:cNvSpPr/>
              <p:nvPr/>
            </p:nvSpPr>
            <p:spPr>
              <a:xfrm>
                <a:off x="3414600" y="5586480"/>
                <a:ext cx="2543040" cy="24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 Box 8"/>
            <p:cNvSpPr/>
            <p:nvPr/>
          </p:nvSpPr>
          <p:spPr>
            <a:xfrm>
              <a:off x="3464640" y="6035040"/>
              <a:ext cx="244296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RRIS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ecurity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397880" y="1600200"/>
            <a:ext cx="58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ver login as someone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C:\Documents and Settings\121hintza.RRISD\Local Settings\Temporary Internet Files\Content.IE5\ONW2JTGI\MPj04393500000[1].jpg"/>
          <p:cNvPicPr/>
          <p:nvPr/>
        </p:nvPicPr>
        <p:blipFill>
          <a:blip r:embed="rId1"/>
          <a:stretch/>
        </p:blipFill>
        <p:spPr>
          <a:xfrm>
            <a:off x="2590920" y="22860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aving Problems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609480" y="1523880"/>
            <a:ext cx="7848720" cy="204876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can’t log on or you are having other issues: 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Brea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n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l your teacher what the problem is.  Computers don’t respond to pa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C:\Documents and Settings\121hintza.RRISD\Local Settings\Temporary Internet Files\Content.IE5\FEGHQT2A\MPj04331800000[1].jpg"/>
          <p:cNvPicPr/>
          <p:nvPr/>
        </p:nvPicPr>
        <p:blipFill>
          <a:blip r:embed="rId1"/>
          <a:stretch/>
        </p:blipFill>
        <p:spPr>
          <a:xfrm>
            <a:off x="2514600" y="3886200"/>
            <a:ext cx="365760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en you are don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838080" y="1447920"/>
            <a:ext cx="74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sure to log off of the computer, and leave all equipment in good order for the next pers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0" t="9562" r="3733" b="0"/>
          <a:stretch/>
        </p:blipFill>
        <p:spPr>
          <a:xfrm>
            <a:off x="1523880" y="3352680"/>
            <a:ext cx="2210040" cy="21621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4572000" y="3886200"/>
            <a:ext cx="27338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f on a Laptop:  Shutdow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3" name="Picture 8" descr=""/>
          <p:cNvPicPr/>
          <p:nvPr/>
        </p:nvPicPr>
        <p:blipFill>
          <a:blip r:embed="rId1"/>
          <a:srcRect l="0" t="60383" r="76607" b="0"/>
          <a:stretch/>
        </p:blipFill>
        <p:spPr>
          <a:xfrm>
            <a:off x="838080" y="1828800"/>
            <a:ext cx="2638440" cy="3352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364" name="Rectangle 2"/>
          <p:cNvSpPr/>
          <p:nvPr/>
        </p:nvSpPr>
        <p:spPr>
          <a:xfrm>
            <a:off x="3581280" y="1981080"/>
            <a:ext cx="48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you use a laptop, shut down rather than log off when you are finished.  Make sure all lights are out prior to closing the li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838080" y="228600"/>
            <a:ext cx="7925040" cy="204372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replacing the laptop in a laptop cart, be sure to put the laptop in the slot number that matches the machine.  Reconnect the electrical pl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1974960" y="2408400"/>
            <a:ext cx="4816440" cy="4437000"/>
          </a:xfrm>
          <a:prstGeom prst="rect">
            <a:avLst/>
          </a:prstGeom>
          <a:ln w="0">
            <a:noFill/>
          </a:ln>
        </p:spPr>
      </p:pic>
      <p:sp>
        <p:nvSpPr>
          <p:cNvPr id="367" name="Oval 5"/>
          <p:cNvSpPr/>
          <p:nvPr/>
        </p:nvSpPr>
        <p:spPr>
          <a:xfrm>
            <a:off x="3429000" y="4648320"/>
            <a:ext cx="1295280" cy="1143000"/>
          </a:xfrm>
          <a:prstGeom prst="ellipse">
            <a:avLst/>
          </a:prstGeom>
          <a:noFill/>
          <a:ln w="73080">
            <a:solidFill>
              <a:srgbClr val="fbe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1447920" y="1295280"/>
            <a:ext cx="6095880" cy="265788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found on TV, video, and computers may be the property of someone el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this information only with per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respon4a"/>
          <p:cNvPicPr/>
          <p:nvPr/>
        </p:nvPicPr>
        <p:blipFill>
          <a:blip r:embed="rId1"/>
          <a:stretch/>
        </p:blipFill>
        <p:spPr>
          <a:xfrm>
            <a:off x="3048120" y="4125960"/>
            <a:ext cx="28191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cceptable Mea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mitt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s you ca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OK to do 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ever, there are guidelines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6" descr="http://www.potpiegirl.com/wp-content/uploads/2008/02/thumbs-up.jpg"/>
          <p:cNvPicPr/>
          <p:nvPr/>
        </p:nvPicPr>
        <p:blipFill>
          <a:blip r:embed="rId1"/>
          <a:stretch/>
        </p:blipFill>
        <p:spPr>
          <a:xfrm>
            <a:off x="1066680" y="1752480"/>
            <a:ext cx="1378080" cy="1629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C:\Documents and Settings\121hintza.RRISD\Local Settings\Temporary Internet Files\Content.IE5\FEGHQT2A\MPj03905750000[1].jpg"/>
          <p:cNvPicPr/>
          <p:nvPr/>
        </p:nvPicPr>
        <p:blipFill>
          <a:blip r:embed="rId2"/>
          <a:stretch/>
        </p:blipFill>
        <p:spPr>
          <a:xfrm>
            <a:off x="6477120" y="2057400"/>
            <a:ext cx="20811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Using Technology is a Privilege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533520" y="34290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have any questions, be sure to ask your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1219320" y="1523880"/>
            <a:ext cx="6400800" cy="76428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can be lost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C:\Documents and Settings\121hintza.RRISD\Local Settings\Temporary Internet Files\Content.IE5\F3CYUJ9H\MPj04308400000[1].jpg"/>
          <p:cNvPicPr/>
          <p:nvPr/>
        </p:nvPicPr>
        <p:blipFill>
          <a:blip r:embed="rId1"/>
          <a:stretch/>
        </p:blipFill>
        <p:spPr>
          <a:xfrm>
            <a:off x="4800600" y="2971800"/>
            <a:ext cx="36511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redi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457200" y="2209680"/>
            <a:ext cx="8305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s of this presentation are courtesy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o ISD. Used with permission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cb7e0e"/>
                </a:solidFill>
                <a:uFillTx/>
                <a:latin typeface="Arial"/>
                <a:hlinkClick r:id="rId1"/>
              </a:rPr>
              <a:t>http://k-12.pisd.edu/guide/elemen/index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quipment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838080" y="182880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equipment, such as keyboards, mice, laptops, digital cameras, and headphones, should be handled with care and resp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C:\Documents and Settings\121hintza.RRISD\Local Settings\Temporary Internet Files\Content.IE5\32GZV3NT\MPj04031590000[1].jpg"/>
          <p:cNvPicPr/>
          <p:nvPr/>
        </p:nvPicPr>
        <p:blipFill>
          <a:blip r:embed="rId1"/>
          <a:stretch/>
        </p:blipFill>
        <p:spPr>
          <a:xfrm>
            <a:off x="5791320" y="4038480"/>
            <a:ext cx="3130560" cy="2094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C:\Documents and Settings\121hintza.RRISD\Local Settings\Temporary Internet Files\Content.IE5\FEGHQT2A\MPj04330530000[1].jpg"/>
          <p:cNvPicPr/>
          <p:nvPr/>
        </p:nvPicPr>
        <p:blipFill>
          <a:blip r:embed="rId2"/>
          <a:stretch/>
        </p:blipFill>
        <p:spPr>
          <a:xfrm>
            <a:off x="762120" y="3809880"/>
            <a:ext cx="2622600" cy="2500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C:\Documents and Settings\121hintza.RRISD\Local Settings\Temporary Internet Files\Content.IE5\F3CYUJ9H\MPj03164350000[1].jpg"/>
          <p:cNvPicPr/>
          <p:nvPr/>
        </p:nvPicPr>
        <p:blipFill>
          <a:blip r:embed="rId3"/>
          <a:stretch/>
        </p:blipFill>
        <p:spPr>
          <a:xfrm>
            <a:off x="3352680" y="4343400"/>
            <a:ext cx="21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914400" y="1523880"/>
            <a:ext cx="710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e Internet only when give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mission by your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C:\Documents and Settings\121hintza.RRISD\Local Settings\Temporary Internet Files\Content.IE5\FEGHQT2A\MPj04394160000[1].jpg"/>
          <p:cNvPicPr/>
          <p:nvPr/>
        </p:nvPicPr>
        <p:blipFill>
          <a:blip r:embed="rId1"/>
          <a:stretch/>
        </p:blipFill>
        <p:spPr>
          <a:xfrm>
            <a:off x="2666880" y="25909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C:\Documents and Settings\121hintza.RRISD\Local Settings\Temporary Internet Files\Content.IE5\FEGHQT2A\MPj04393440000[1].jpg"/>
          <p:cNvPicPr/>
          <p:nvPr/>
        </p:nvPicPr>
        <p:blipFill>
          <a:blip r:embed="rId1"/>
          <a:stretch/>
        </p:blipFill>
        <p:spPr>
          <a:xfrm>
            <a:off x="6784920" y="3962520"/>
            <a:ext cx="2359080" cy="27399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tudent Internet U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support the educational goals and objectives of RRI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educationally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supervised by adults at al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may not type their own or others name, address, phone number or other personal information into any place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at may students do on the internet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w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-selected web pages with staff supervision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wse mea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ing through pages of a specific web site designated by the teacher to view the content of those particula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rcRect l="0" t="0" r="0" b="11598"/>
          <a:stretch/>
        </p:blipFill>
        <p:spPr>
          <a:xfrm>
            <a:off x="4648320" y="4230720"/>
            <a:ext cx="40384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at may students do on the computer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parental permission to use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an educational purpose for using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C:\Documents and Settings\121hintza.RRISD\Local Settings\Temporary Internet Files\Content.IE5\32GZV3NT\MPj04393470000[1].jpg"/>
          <p:cNvPicPr/>
          <p:nvPr/>
        </p:nvPicPr>
        <p:blipFill>
          <a:blip r:embed="rId1"/>
          <a:stretch/>
        </p:blipFill>
        <p:spPr>
          <a:xfrm>
            <a:off x="2743200" y="2895480"/>
            <a:ext cx="365436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rade 3, 4 and 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4 and 5 may search subject directories- Nettrekker, Yahooligans, those designated by the librarian or teacher to be student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3-5 may 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-appro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RL’s directly into the address bar-  Studen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the address checked by the teacher before pressing 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C:\Documents and Settings\121hintza.RRISD\Local Settings\Temporary Internet Files\Content.IE5\32GZV3NT\MPj04393470000[1].jpg"/>
          <p:cNvPicPr/>
          <p:nvPr/>
        </p:nvPicPr>
        <p:blipFill>
          <a:blip r:embed="rId1"/>
          <a:stretch/>
        </p:blipFill>
        <p:spPr>
          <a:xfrm>
            <a:off x="7238880" y="4800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1447920" y="609480"/>
            <a:ext cx="6172200" cy="1068840"/>
          </a:xfrm>
          <a:prstGeom prst="rect">
            <a:avLst/>
          </a:prstGeom>
          <a:solidFill>
            <a:srgbClr val="4b7937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found on the Internet is NOT alway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inter3aa"/>
          <p:cNvPicPr/>
          <p:nvPr/>
        </p:nvPicPr>
        <p:blipFill>
          <a:blip r:embed="rId1"/>
          <a:stretch/>
        </p:blipFill>
        <p:spPr>
          <a:xfrm>
            <a:off x="2971800" y="1897200"/>
            <a:ext cx="2895480" cy="2446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5"/>
          <p:cNvSpPr/>
          <p:nvPr/>
        </p:nvSpPr>
        <p:spPr>
          <a:xfrm>
            <a:off x="1371600" y="44956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empus Sans ITC"/>
              </a:rPr>
              <a:t>Polka-dot cow found on an Austin far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21:20:09Z</dcterms:created>
  <dc:creator>amanda allen</dc:creator>
  <dc:description/>
  <dc:language>en-US</dc:language>
  <cp:lastModifiedBy>e109178</cp:lastModifiedBy>
  <dcterms:modified xsi:type="dcterms:W3CDTF">2012-11-26T15:01:01Z</dcterms:modified>
  <cp:revision>43</cp:revision>
  <dc:subject/>
  <dc:title>Student Internet Use</dc:title>
</cp:coreProperties>
</file>